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980400" cy="9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954600" y="-360"/>
            <a:ext cx="302400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86920" y="690480"/>
            <a:ext cx="4605480" cy="345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748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954600" y="8748360"/>
            <a:ext cx="302400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5035-2FD4-4957-AF4A-A972BC538F2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954600" y="8748720"/>
            <a:ext cx="3024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81EE-6E35-48F7-AB45-D06C1C3431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. 1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54600" y="8748720"/>
            <a:ext cx="3024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9153-9B33-41CA-812B-9D6251529F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54600" y="8748720"/>
            <a:ext cx="3024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96CB-6E37-4B92-A765-3560858E98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0E22-AFEA-48FC-9928-6D72A171F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8B58-CCC4-4117-AE1D-A29394F9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E7E9-CE5A-4CE5-AAE7-2F1FF85C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2500-51D7-4934-9B6C-BF8EE2A7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8855-5AC8-4962-AF97-D2F9CEA49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4EBE-9F7F-4EA2-9235-A5163F30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896F-6789-4863-8D1D-880E1A94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0BCF-1272-488E-A4A0-4707F3DB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73DF-8CEC-4CB4-8334-FC66020B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1ABD-CF24-4EFD-B53D-3B342830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3B2D-138C-4572-BA98-FFDD672D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4494-2C8C-4CFF-AC6F-9A534A3C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4DF1-B452-425B-9562-7A74716E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431A-2237-4BAB-906A-F21E1945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2256-7CA7-4D08-9B14-D48ED043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1395-FAB2-40BC-AC3A-202758AF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2044-B2D1-489E-9807-67ACC0090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30272-1BF4-428B-8D80-CB5AC0951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69E70-0ECB-49BF-A301-B5AB6190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F4209-E2CB-44D8-9C2A-81D41933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B6B21-E44C-4F7C-839C-D83F9CE1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ED53B-BEC4-484E-841A-2ECE2B1E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1D42-4D95-41AF-9021-F0E67823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2F0E5-21BE-4E00-B2A7-AC821B68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FCD96-526C-45F5-A63A-BD667E48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E1921-08D6-4F26-8B4F-50EED7DD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446E5-57E6-43A5-B6C8-BF3FBA83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8F8C0-9796-48B0-9AAC-9F5D1254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59BD5-CB07-42E4-A706-7D3AF3EEF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24D7C-1347-40E4-ADC5-119BAF825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9FF93-CC17-48DB-BD6F-52B27D4A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65D67-CC05-40F3-8943-D979D228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8D8D3-AEDC-4DCC-A4D6-783395F3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6AB5-4371-4512-9EBC-732EA2E3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3CED9-9F85-498A-9507-6C52BCB4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AC95E-749A-45ED-A1C0-B2A0D65F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F0D2E-E713-4F9B-8450-468C1545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6C14C-4018-4CDE-96B7-D7107B12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B1147-B0A0-4646-B98C-48050B04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563E5-1311-4A8C-82E5-4CA2F8F3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BE2C9-DAB4-4243-8356-7EFBD5A8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D78BC-D11C-48CE-B01D-826CBB5CE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DD0ED-77E4-473E-8C04-ACDB176C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FED40-2E44-4458-A3AB-558EDF07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24FE-C4A8-4912-A0B5-85DDE97F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729DE-017B-4C73-A8BC-88330B64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26A6F-DFC7-4E01-89C8-B7292E3E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82E33-26B5-4D35-A37F-1D696477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62793-BD5A-499B-8FC9-E908C495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1ABFB-F9DE-4F8E-9711-6963E5C7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57744-6C9E-4D43-AC28-9E96EDB0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D4D85-C28D-4778-98C8-87B10F73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E443C-567A-4038-914D-6A899529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F7547-0B43-4233-A553-3A241645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EC02F-2660-4DE8-AAED-A86D6872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B8AD-08FF-4BB3-B563-17ED0FA2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26618-B5F0-47C9-8A70-D549A796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6D4C5-45EE-4F05-8EF0-38C7E7C76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0FDA7-73A2-4C8F-9BB1-F73E4790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7D8C2-EBEF-41C6-A4E1-6B155832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A5181-89A7-4593-949C-5A005199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D8E01-8884-4A8C-8F9F-BA6B723C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90037-3B36-4904-9AA3-4B6864A8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5D5DF-2B1B-4906-8004-77BB0233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635BE-8A01-4B7A-9117-F52EC2BE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C4A3D-B452-491A-BBC2-47696966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3C90-3F94-478A-84ED-D75DD944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EE2F8-4989-482A-8E30-C2407A4E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E9356-D9F2-4C2F-9CA3-FEB7F752D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70AE5-8223-4D61-8DC0-065CFFCB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909AB-099D-4DF4-8CDB-89D641F78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E9877-5404-42FF-80EC-9C1EAAE7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AC794-8BA3-4ABB-B3F3-841BDA3F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3465D-5104-48A6-B81A-DE96399A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2442E-BF7A-493F-B9AD-F5E07F7B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B48E9-9BBE-4420-9F3A-E8E23558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3F383-D10D-44C1-9C23-613D01E6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6DE3-E3EF-4E9E-A2C8-1BF62D54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F012C-61BB-48BB-82DB-5FB5DDB0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B8F04-D8A2-48AA-A43E-6547CEC4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6866A-AE34-43C3-871C-8D7037A3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66F45-18F5-4789-94B5-495687FE0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BE83B-E1B9-4F93-AA97-5DE4F2950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2285-0E27-48D6-86E6-0E4CC807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9380-DD7D-4E5B-84B1-BAD4EAEF5595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16BB-9337-48BC-B77E-A934FCA0725C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63080" y="6180120"/>
            <a:ext cx="531360" cy="408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DC7C-C627-4C74-AD55-A19340DAF750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00F8-B094-44B4-9BAB-67B3A8FD2F56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9E1C-E763-4EED-BF68-40A5887C2C74}" type="slidenum">
              <a:rPr b="0" lang="en-US" sz="1600" spc="-1" strike="noStrike">
                <a:solidFill>
                  <a:srgbClr val="434342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E4AD-87DF-475B-8E27-4338CA86917D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59432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6854-E629-48B2-A10F-A781DBAAEF55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809880" y="5943240"/>
            <a:ext cx="4267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ta Te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320320" y="6012720"/>
            <a:ext cx="808200" cy="3373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Slide </a:t>
            </a:r>
            <a:fld id="{5C0A7BA0-DE4F-42DF-8040-6E0BDEBFC8A8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 rot="19140000">
            <a:off x="245880" y="1626480"/>
            <a:ext cx="68040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Data Teams at stanton network schoo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in the context of THE seed teacher eval program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Presented by Billie Shea &amp; Jane Cook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dapted from materials developed by the Leadership and Learning Center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</a:rPr>
              <a:t>Data Teams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Slide Number Placeholder 5"/>
          <p:cNvSpPr/>
          <p:nvPr/>
        </p:nvSpPr>
        <p:spPr>
          <a:xfrm>
            <a:off x="8153280" y="6095880"/>
            <a:ext cx="750960" cy="5778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Franklin Gothic Book"/>
              </a:rPr>
              <a:t>Slide </a:t>
            </a:r>
            <a:fld id="{B27893B3-AC40-44C9-AA4F-BD8C8ED36D10}" type="slidenum">
              <a:rPr b="0" lang="en-US" sz="15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Data Team Action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Franklin Gothic Boo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Data Teams adhere to continuous improvement cycles, examine patterns and trends, and establish specific timelines, roles, and responsibilities to facilitate analysis that results in action.</a:t>
            </a:r>
            <a:r>
              <a:rPr b="0" lang="ja-JP" sz="2400" spc="-1" strike="noStrike">
                <a:solidFill>
                  <a:srgbClr val="000000"/>
                </a:solidFill>
                <a:latin typeface="Franklin Gothic Book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(S. White, </a:t>
            </a: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Beyond the Numbers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, 2005, p. 18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tle 1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Illustration of Core Requirements 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of SEED Teacher Evaluation PILOT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315" name="Straight Arrow Connector 9"/>
          <p:cNvCxnSpPr>
            <a:stCxn id="316" idx="2"/>
            <a:endCxn id="317" idx="0"/>
          </p:cNvCxnSpPr>
          <p:nvPr/>
        </p:nvCxnSpPr>
        <p:spPr>
          <a:xfrm>
            <a:off x="1176480" y="1820520"/>
            <a:ext cx="1124640" cy="826200"/>
          </a:xfrm>
          <a:prstGeom prst="straightConnector1">
            <a:avLst/>
          </a:prstGeom>
          <a:ln w="25560">
            <a:solidFill>
              <a:srgbClr val="797b7e"/>
            </a:solidFill>
            <a:miter/>
            <a:tailEnd len="med" type="arrow" w="med"/>
          </a:ln>
        </p:spPr>
      </p:cxnSp>
      <p:cxnSp>
        <p:nvCxnSpPr>
          <p:cNvPr id="318" name="Straight Arrow Connector 12"/>
          <p:cNvCxnSpPr>
            <a:stCxn id="319" idx="2"/>
            <a:endCxn id="317" idx="0"/>
          </p:cNvCxnSpPr>
          <p:nvPr/>
        </p:nvCxnSpPr>
        <p:spPr>
          <a:xfrm flipH="1">
            <a:off x="2300040" y="2314440"/>
            <a:ext cx="1094400" cy="332640"/>
          </a:xfrm>
          <a:prstGeom prst="straightConnector1">
            <a:avLst/>
          </a:prstGeom>
          <a:ln w="25560">
            <a:solidFill>
              <a:srgbClr val="797b7e"/>
            </a:solidFill>
            <a:miter/>
            <a:tailEnd len="med" type="arrow" w="med"/>
          </a:ln>
        </p:spPr>
      </p:cxnSp>
      <p:grpSp>
        <p:nvGrpSpPr>
          <p:cNvPr id="320" name="Group 18"/>
          <p:cNvGrpSpPr/>
          <p:nvPr/>
        </p:nvGrpSpPr>
        <p:grpSpPr>
          <a:xfrm>
            <a:off x="270000" y="990720"/>
            <a:ext cx="8645400" cy="3914640"/>
            <a:chOff x="270000" y="990720"/>
            <a:chExt cx="8645400" cy="3914640"/>
          </a:xfrm>
        </p:grpSpPr>
        <p:sp>
          <p:nvSpPr>
            <p:cNvPr id="316" name="TextBox 2"/>
            <p:cNvSpPr/>
            <p:nvPr/>
          </p:nvSpPr>
          <p:spPr>
            <a:xfrm>
              <a:off x="270000" y="990720"/>
              <a:ext cx="1811160" cy="824040"/>
            </a:xfrm>
            <a:prstGeom prst="rect">
              <a:avLst/>
            </a:prstGeom>
            <a:solidFill>
              <a:srgbClr val="dadad9"/>
            </a:solidFill>
            <a:ln w="9360">
              <a:solidFill>
                <a:srgbClr val="4343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17074"/>
                  </a:solidFill>
                  <a:latin typeface="Calibri"/>
                  <a:ea typeface="Calibri"/>
                </a:rPr>
                <a:t>Student Growth and Development (45%)</a:t>
              </a:r>
              <a:endParaRPr b="0" lang="en-US" sz="1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19" name="TextBox 3"/>
            <p:cNvSpPr/>
            <p:nvPr/>
          </p:nvSpPr>
          <p:spPr>
            <a:xfrm>
              <a:off x="2449440" y="990720"/>
              <a:ext cx="1887480" cy="1310760"/>
            </a:xfrm>
            <a:prstGeom prst="rect">
              <a:avLst/>
            </a:prstGeom>
            <a:solidFill>
              <a:srgbClr val="dadad9"/>
            </a:solidFill>
            <a:ln w="9360">
              <a:solidFill>
                <a:srgbClr val="4343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17074"/>
                  </a:solidFill>
                  <a:latin typeface="Calibri"/>
                  <a:ea typeface="Calibri"/>
                </a:rPr>
                <a:t>Whole-school Student Learning Indicators or Student Feedback (5%)</a:t>
              </a:r>
              <a:endParaRPr b="0" lang="en-US" sz="1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21" name="TextBox 4"/>
            <p:cNvSpPr/>
            <p:nvPr/>
          </p:nvSpPr>
          <p:spPr>
            <a:xfrm>
              <a:off x="4794480" y="990720"/>
              <a:ext cx="1811160" cy="824040"/>
            </a:xfrm>
            <a:prstGeom prst="rect">
              <a:avLst/>
            </a:prstGeom>
            <a:solidFill>
              <a:srgbClr val="dadad9"/>
            </a:solidFill>
            <a:ln w="9360">
              <a:solidFill>
                <a:srgbClr val="4343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17074"/>
                  </a:solidFill>
                  <a:latin typeface="Calibri"/>
                  <a:ea typeface="Calibri"/>
                </a:rPr>
                <a:t>Observations of Performance and  Practice (40%)</a:t>
              </a:r>
              <a:endParaRPr b="0" lang="en-US" sz="1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22" name="TextBox 5"/>
            <p:cNvSpPr/>
            <p:nvPr/>
          </p:nvSpPr>
          <p:spPr>
            <a:xfrm>
              <a:off x="7102440" y="990720"/>
              <a:ext cx="1812960" cy="580680"/>
            </a:xfrm>
            <a:prstGeom prst="rect">
              <a:avLst/>
            </a:prstGeom>
            <a:solidFill>
              <a:srgbClr val="dadad9"/>
            </a:solidFill>
            <a:ln w="9360">
              <a:solidFill>
                <a:srgbClr val="4343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17074"/>
                  </a:solidFill>
                  <a:latin typeface="Calibri"/>
                  <a:ea typeface="Calibri"/>
                </a:rPr>
                <a:t>Peer or Parent Feedback (10%)</a:t>
              </a:r>
              <a:endParaRPr b="0" lang="en-US" sz="1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23" name="TextBox 6"/>
            <p:cNvSpPr/>
            <p:nvPr/>
          </p:nvSpPr>
          <p:spPr>
            <a:xfrm>
              <a:off x="6004080" y="2627280"/>
              <a:ext cx="1812960" cy="916920"/>
            </a:xfrm>
            <a:prstGeom prst="rect">
              <a:avLst/>
            </a:prstGeom>
            <a:solidFill>
              <a:srgbClr val="dadad9"/>
            </a:solidFill>
            <a:ln w="9360">
              <a:solidFill>
                <a:srgbClr val="4343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17074"/>
                  </a:solidFill>
                  <a:latin typeface="Calibri"/>
                  <a:ea typeface="Calibri"/>
                </a:rPr>
                <a:t>Practice Rating (based on Cause Data) (50%)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17" name="TextBox 7"/>
            <p:cNvSpPr/>
            <p:nvPr/>
          </p:nvSpPr>
          <p:spPr>
            <a:xfrm>
              <a:off x="1393920" y="2646360"/>
              <a:ext cx="1812960" cy="916920"/>
            </a:xfrm>
            <a:prstGeom prst="rect">
              <a:avLst/>
            </a:prstGeom>
            <a:solidFill>
              <a:srgbClr val="dadad9"/>
            </a:solidFill>
            <a:ln w="9360">
              <a:solidFill>
                <a:srgbClr val="4343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17074"/>
                  </a:solidFill>
                  <a:latin typeface="Calibri"/>
                  <a:ea typeface="Calibri"/>
                </a:rPr>
                <a:t>Outcome Rating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17074"/>
                  </a:solidFill>
                  <a:latin typeface="Calibri"/>
                  <a:ea typeface="Calibri"/>
                </a:rPr>
                <a:t>(based on Effects Data) (50%)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24" name="TextBox 8"/>
            <p:cNvSpPr/>
            <p:nvPr/>
          </p:nvSpPr>
          <p:spPr>
            <a:xfrm>
              <a:off x="1393920" y="4262760"/>
              <a:ext cx="6423120" cy="642600"/>
            </a:xfrm>
            <a:prstGeom prst="rect">
              <a:avLst/>
            </a:prstGeom>
            <a:solidFill>
              <a:srgbClr val="dadad9"/>
            </a:solidFill>
            <a:ln w="9360">
              <a:solidFill>
                <a:srgbClr val="4343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17074"/>
                  </a:solidFill>
                  <a:latin typeface="Calibri"/>
                  <a:ea typeface="Calibri"/>
                </a:rPr>
                <a:t>All factors are combined to reach each teacher</a:t>
              </a:r>
              <a:r>
                <a:rPr b="0" lang="ja-JP" sz="1800" spc="-1" strike="noStrike">
                  <a:solidFill>
                    <a:srgbClr val="717074"/>
                  </a:solidFill>
                  <a:latin typeface="Calibri"/>
                  <a:ea typeface="Calibri"/>
                </a:rPr>
                <a:t>’</a:t>
              </a:r>
              <a:r>
                <a:rPr b="0" lang="en-US" sz="1800" spc="-1" strike="noStrike">
                  <a:solidFill>
                    <a:srgbClr val="717074"/>
                  </a:solidFill>
                  <a:latin typeface="Calibri"/>
                  <a:ea typeface="Calibri"/>
                </a:rPr>
                <a:t>s final annual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17074"/>
                  </a:solidFill>
                  <a:latin typeface="Calibri"/>
                  <a:ea typeface="Calibri"/>
                </a:rPr>
                <a:t>rating (as described in the Connecticut guidelines).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cxnSp>
          <p:nvCxnSpPr>
            <p:cNvPr id="325" name="Straight Arrow Connector 10"/>
            <p:cNvCxnSpPr>
              <a:stCxn id="323" idx="2"/>
              <a:endCxn id="324" idx="0"/>
            </p:cNvCxnSpPr>
            <p:nvPr/>
          </p:nvCxnSpPr>
          <p:spPr>
            <a:xfrm flipH="1">
              <a:off x="4605120" y="3551040"/>
              <a:ext cx="2305440" cy="711720"/>
            </a:xfrm>
            <a:prstGeom prst="straightConnector1">
              <a:avLst/>
            </a:prstGeom>
            <a:ln w="25560">
              <a:solidFill>
                <a:srgbClr val="797b7e"/>
              </a:solidFill>
              <a:miter/>
              <a:tailEnd len="med" type="arrow" w="med"/>
            </a:ln>
          </p:spPr>
        </p:cxnSp>
        <p:cxnSp>
          <p:nvCxnSpPr>
            <p:cNvPr id="326" name="Straight Arrow Connector 11"/>
            <p:cNvCxnSpPr/>
            <p:nvPr/>
          </p:nvCxnSpPr>
          <p:spPr>
            <a:xfrm flipH="1">
              <a:off x="6832440" y="1638360"/>
              <a:ext cx="984960" cy="1008720"/>
            </a:xfrm>
            <a:prstGeom prst="straightConnector1">
              <a:avLst/>
            </a:prstGeom>
            <a:ln w="25560">
              <a:solidFill>
                <a:srgbClr val="797b7e"/>
              </a:solidFill>
              <a:miter/>
              <a:tailEnd len="med" type="arrow" w="med"/>
            </a:ln>
          </p:spPr>
        </p:cxnSp>
        <p:cxnSp>
          <p:nvCxnSpPr>
            <p:cNvPr id="327" name="Straight Arrow Connector 13"/>
            <p:cNvCxnSpPr>
              <a:stCxn id="317" idx="2"/>
              <a:endCxn id="324" idx="0"/>
            </p:cNvCxnSpPr>
            <p:nvPr/>
          </p:nvCxnSpPr>
          <p:spPr>
            <a:xfrm>
              <a:off x="2300040" y="3570480"/>
              <a:ext cx="2305440" cy="692640"/>
            </a:xfrm>
            <a:prstGeom prst="straightConnector1">
              <a:avLst/>
            </a:prstGeom>
            <a:ln w="25560">
              <a:solidFill>
                <a:srgbClr val="797b7e"/>
              </a:solidFill>
              <a:miter/>
              <a:tailEnd len="med" type="arrow" w="med"/>
            </a:ln>
          </p:spPr>
        </p:cxnSp>
        <p:cxnSp>
          <p:nvCxnSpPr>
            <p:cNvPr id="328" name="Straight Arrow Connector 14"/>
            <p:cNvCxnSpPr>
              <a:stCxn id="321" idx="2"/>
            </p:cNvCxnSpPr>
            <p:nvPr/>
          </p:nvCxnSpPr>
          <p:spPr>
            <a:xfrm>
              <a:off x="5700960" y="1820520"/>
              <a:ext cx="1132560" cy="826200"/>
            </a:xfrm>
            <a:prstGeom prst="straightConnector1">
              <a:avLst/>
            </a:prstGeom>
            <a:ln w="25560">
              <a:solidFill>
                <a:srgbClr val="797b7e"/>
              </a:solidFill>
              <a:miter/>
              <a:tailEnd len="med" type="arrow" w="med"/>
            </a:ln>
          </p:spPr>
        </p:cxnSp>
      </p:grpSp>
      <p:sp>
        <p:nvSpPr>
          <p:cNvPr id="329" name="Date Placeholder 1"/>
          <p:cNvSpPr/>
          <p:nvPr/>
        </p:nvSpPr>
        <p:spPr>
          <a:xfrm>
            <a:off x="4114800" y="6400800"/>
            <a:ext cx="45324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Adapted from CSDE Teacher Evaluation Orientation, 8/10/12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0" y="6259680"/>
            <a:ext cx="1143000" cy="598320"/>
          </a:xfrm>
          <a:prstGeom prst="rect">
            <a:avLst/>
          </a:prstGeom>
          <a:ln w="0">
            <a:noFill/>
          </a:ln>
        </p:spPr>
      </p:pic>
      <p:sp>
        <p:nvSpPr>
          <p:cNvPr id="331" name="Slide Number Placeholder 5"/>
          <p:cNvSpPr/>
          <p:nvPr/>
        </p:nvSpPr>
        <p:spPr>
          <a:xfrm>
            <a:off x="8229600" y="6172200"/>
            <a:ext cx="674640" cy="5014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Franklin Gothic Book"/>
              </a:rPr>
              <a:t>Slide </a:t>
            </a:r>
            <a:fld id="{37E6DB6C-078A-4CAD-A3DA-D42CC12B42C0}" type="slidenum">
              <a:rPr b="0" lang="en-US" sz="13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2" name="TextBox 20"/>
          <p:cNvSpPr/>
          <p:nvPr/>
        </p:nvSpPr>
        <p:spPr>
          <a:xfrm>
            <a:off x="76320" y="1981080"/>
            <a:ext cx="131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tudent Learning Objectives (SLOs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TextBox 25"/>
          <p:cNvSpPr/>
          <p:nvPr/>
        </p:nvSpPr>
        <p:spPr>
          <a:xfrm>
            <a:off x="7572240" y="182880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Observations &amp; Survey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Straight Connector 27"/>
          <p:cNvSpPr/>
          <p:nvPr/>
        </p:nvSpPr>
        <p:spPr>
          <a:xfrm>
            <a:off x="4572000" y="990720"/>
            <a:ext cx="33480" cy="3124080"/>
          </a:xfrm>
          <a:prstGeom prst="line">
            <a:avLst/>
          </a:prstGeom>
          <a:ln w="9360">
            <a:solidFill>
              <a:srgbClr val="76787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</a:rPr>
              <a:t>Data Teams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6" name="Slide Number Placeholder 5"/>
          <p:cNvSpPr/>
          <p:nvPr/>
        </p:nvSpPr>
        <p:spPr>
          <a:xfrm>
            <a:off x="8153280" y="6095880"/>
            <a:ext cx="750960" cy="5778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Franklin Gothic Book"/>
              </a:rPr>
              <a:t>Slide </a:t>
            </a:r>
            <a:fld id="{F85088B1-8C2C-4D02-BDA9-4602A4F92731}" type="slidenum">
              <a:rPr b="0" lang="en-US" sz="15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75960"/>
            <a:ext cx="752184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Data Team Proces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763560"/>
            <a:ext cx="82296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Collect and chart data AKA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reasure Hu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Analyze strengths and obstacle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Establish SMART goals that are Specific, Measurable, Achievable, Relevant/Realistic, and Timely: Set, Review, Revise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Select instructional strategies:  What effective teaching strategies will adults use to help students achieve SMART goals?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Determine results indicators:  What measures will we use?  How will we know that we have succeeded?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365040"/>
            <a:ext cx="8077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HOW The data Team process aligns with setting Student learning objectives IN SEED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2240" y="1100160"/>
          <a:ext cx="7521840" cy="3608280"/>
        </p:xfrm>
        <a:graphic>
          <a:graphicData uri="http://schemas.openxmlformats.org/drawingml/2006/table">
            <a:tbl>
              <a:tblPr/>
              <a:tblGrid>
                <a:gridCol w="3760920"/>
                <a:gridCol w="37609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The Data Team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Teacher Goal Setting  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tep 1:  Treasure H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aseline Data/Background In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tep 2:  Identify strengths and weakne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LO &amp; Rationale for obje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tep 3: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ablish SMART goa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et IAG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tep 4: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lect instructional strate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trategies/Actions to achieve SL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1261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tep 5:  Identify results indic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nterim Assessments &amp; Data Collection/Assessment of Progress Toward Achieving the S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ooter Placeholder 4"/>
          <p:cNvSpPr/>
          <p:nvPr/>
        </p:nvSpPr>
        <p:spPr>
          <a:xfrm>
            <a:off x="3809880" y="5943600"/>
            <a:ext cx="4267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</a:rPr>
              <a:t>Data Teams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Slide Number Placeholder 5"/>
          <p:cNvSpPr/>
          <p:nvPr/>
        </p:nvSpPr>
        <p:spPr>
          <a:xfrm>
            <a:off x="8153280" y="5943600"/>
            <a:ext cx="838440" cy="5335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Slide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B665-9FAE-4AC6-990B-9D03464E339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The Leadership/Learning Matrix (L2 Matrix)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914400" y="914400"/>
          <a:ext cx="7620120" cy="4184640"/>
        </p:xfrm>
        <a:graphic>
          <a:graphicData uri="http://schemas.openxmlformats.org/drawingml/2006/table">
            <a:tbl>
              <a:tblPr/>
              <a:tblGrid>
                <a:gridCol w="3809880"/>
                <a:gridCol w="3810240"/>
              </a:tblGrid>
              <a:tr h="2057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uck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igh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Low understanding of antece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plication of success unlik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ccess unlik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ea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igh resul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igh understanding of antece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plication of success lik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osing Gro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Low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Low understanding of antece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plication of failure lik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ear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Low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igh understanding of antece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plication of mistakes unlik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Text Box 36"/>
          <p:cNvSpPr/>
          <p:nvPr/>
        </p:nvSpPr>
        <p:spPr>
          <a:xfrm>
            <a:off x="1523880" y="5105520"/>
            <a:ext cx="632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Antecedents – Adult Actions/Intervention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Cause Data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Text Box 37"/>
          <p:cNvSpPr/>
          <p:nvPr/>
        </p:nvSpPr>
        <p:spPr>
          <a:xfrm rot="10800000">
            <a:off x="304560" y="151920"/>
            <a:ext cx="60696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Effects/Results Data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4:20:56Z</dcterms:created>
  <dc:creator>Jane Cook</dc:creator>
  <dc:description/>
  <dc:language>en-US</dc:language>
  <cp:lastModifiedBy>Jane Cook</cp:lastModifiedBy>
  <cp:lastPrinted>2012-10-23T14:50:55Z</cp:lastPrinted>
  <dcterms:modified xsi:type="dcterms:W3CDTF">2013-08-22T21:30:56Z</dcterms:modified>
  <cp:revision>56</cp:revision>
  <dc:subject/>
  <dc:title>Data Teams  at Windham Middle School</dc:title>
</cp:coreProperties>
</file>